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570B-32EB-4561-B8C9-6D52EBEF8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854B-99CC-4D22-8B6F-9058F6B93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B060-83B4-4455-94D1-5A8477D1A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4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366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4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0730-4E8C-4DA2-B2D1-0BEEC9E7F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7E3C-6B07-4C25-BC2F-B67ABE03D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9E2B-A91B-4218-9529-BE60D5F26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670D-E8F6-4D2F-937E-2F159216B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775F-E3A8-4FC1-87E1-BE9FC9AD8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6600" y="569880"/>
            <a:ext cx="8440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77B3-8AB4-43A5-96BE-B77500094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D7AD-2584-4D82-A2C6-658DCB76C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C398-82FE-40D1-84E5-8896A26BD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AB34-35C2-4920-80E4-D343D7AB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81840" y="6643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33BA-D458-4750-8A57-EB22FC6D8650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abVIEW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abVIEW (LV) ble i sin tid laget som et grafisk grensesnitt som forenklet logging og analysering av da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V er i dag utviklet til å bli et fullt grafisk programmeringssprå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Programmeringen består i å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age en ”forside” med grafer, knapper osv (representerer for eksempel utsiden av en radi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age en ”bakside” med blokkdiagrammer (representerer innmaten i radioe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ildekoden (blokkdiagrammet) er ”åpen” og blir kompilert ved lagr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ksekverer meget raskt (tilnærmet optimalisert C kod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erdige programmer kan kompileres videre til helt vanlige program som kan installeres uten at man bruker LV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n tilnærmet uendelighet av hardware og software kan kobles sammen med LV (loggeutstyr, Internett, e-post osv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8C4E-70A9-42DF-8FCF-5F377F84AE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Eks: Addere to ta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5960" y="1787400"/>
            <a:ext cx="468648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1040" y="4438800"/>
            <a:ext cx="5315040" cy="215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57000" y="23637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orside” eller Front Pan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8320" y="3976560"/>
            <a:ext cx="35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akside” eller Block Diagra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AC6D-CC36-450E-81FD-FFDECD6BF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Eks: Temperaturmåling (simuler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332000"/>
            <a:ext cx="4047840" cy="40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68600" y="3849840"/>
            <a:ext cx="5133960" cy="277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06280" y="3363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680160" y="3700440"/>
            <a:ext cx="797040" cy="1162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5480" y="29541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Random ta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76560" y="3495600"/>
            <a:ext cx="1042920" cy="2001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8CB1-4543-40CC-A3BA-41321C0C2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abVIEW Oppsummer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Grafisk programm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Kan kanskje best sammenlignes med å bygge en radio med knotter og display, mens innmaten er et blokkdiagra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National Instruments som lager LV holder jevnlige kurs i hele Norge, fra nybegynner til ekspe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V brukes på alle høyskoler og universitet i tillegg til i industri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20D2-5314-4F48-BF31-297DBC241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29:41Z</dcterms:created>
  <dc:creator>Bjørnar Svingen</dc:creator>
  <dc:description/>
  <dc:language>en-US</dc:language>
  <cp:lastModifiedBy>Pappa</cp:lastModifiedBy>
  <cp:lastPrinted>2001-12-20T10:37:21Z</cp:lastPrinted>
  <dcterms:modified xsi:type="dcterms:W3CDTF">2006-01-10T22:49:51Z</dcterms:modified>
  <cp:revision>21</cp:revision>
  <dc:subject/>
  <dc:title>LVTrans</dc:title>
</cp:coreProperties>
</file>