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E500-7526-4115-903A-9AE514CE0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EF5C-4F96-4DF0-861C-E9AAE9648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ECC8-82E9-4922-9E77-DE58098FE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4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366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4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5D9D-E300-4354-B653-FD75A54B3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A556-5D9F-43D7-A082-3D2A2D537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6CFF-9681-497E-AEDE-94C5F0095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E993-C379-4758-8761-A6DF9F4E8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060E-109A-4C54-BF79-5B5A65FAB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36600" y="569880"/>
            <a:ext cx="8440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7A30-9DF1-4559-9DB0-AE857CA8F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847A-8580-4288-A989-E3FAAFF78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E600-475E-4736-9DA6-EA46F75F3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20C4-ED94-4999-ABE9-0E8574F93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Background for projecto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81840" y="6643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589-5B69-4ADC-A130-641B8A86A177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2199-3CA8-480A-9F7B-972C67CC64A4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1"/>
          <a:srcRect l="0" t="19488" r="3127" b="6652"/>
          <a:stretch/>
        </p:blipFill>
        <p:spPr>
          <a:xfrm>
            <a:off x="601560" y="1217520"/>
            <a:ext cx="8266320" cy="5042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Generelt beregningsprogram for strømning i rørsyste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unet” inn mot vannkraftve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ruker LabVIEW som grafisk grensesnitt både til bygging av systemer og til interaktiv vis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rukeren setter sammen ferdiglagede komponenter, og trenger ikke å tenke på hva som er inni komponenten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rukes til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Dimensjonering, ved nybygg eller endring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Studier av mulige endringer/forbedring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Verifisering/QA av eksterne beregning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Simulator som verktøy for driftsperson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Til opplæring, kursing et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Kan kobles opp mot eksisterende måleutstyr og blir da foreksempel et slags ”vannvegs-overvåkingssystem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A084-4445-4DEB-88F8-3379C441738C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ise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6600" y="1341360"/>
            <a:ext cx="84405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LVTrans er utviklet av Bjørnar Svingen. Lisens har lenge tilhørt Sintef Energi og Bjørnar Svingen i felleskap. I dag er hele programpakken ”Open Source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Lisensen er i dag BSD-lisens med Sintef Energi og Bjørnar Svingen som Copyright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SD-lisens er valgt av følgende grunner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3366"/>
                </a:solidFill>
                <a:latin typeface="Arial"/>
              </a:rPr>
              <a:t>Kan fritt distribueres og modifiseres kommersielt eller gratis (viktig for universiteter)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3366"/>
                </a:solidFill>
                <a:latin typeface="Arial"/>
              </a:rPr>
              <a:t>Ingen krav til videre åpen/”fri” distribusjon (viktig for kommersielle løsninger og modifikasjoner, spesielt embedded løsninger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3366"/>
                </a:solidFill>
                <a:latin typeface="Arial"/>
              </a:rPr>
              <a:t>Copyright-innehaverne kan velge å distribuere kun deler av programpakk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87854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"/>
          <p:cNvPicPr/>
          <p:nvPr/>
        </p:nvPicPr>
        <p:blipFill>
          <a:blip r:embed="rId1"/>
          <a:srcRect l="36912" t="16980" r="32970" b="50006"/>
          <a:stretch/>
        </p:blipFill>
        <p:spPr>
          <a:xfrm>
            <a:off x="1547640" y="4076640"/>
            <a:ext cx="3672000" cy="2089080"/>
          </a:xfrm>
          <a:prstGeom prst="rect">
            <a:avLst/>
          </a:prstGeom>
          <a:ln w="0">
            <a:noFill/>
          </a:ln>
        </p:spPr>
      </p:pic>
      <p:sp>
        <p:nvSpPr>
          <p:cNvPr id="45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1DDE-9EC8-46A7-A2E0-1B97653D55F0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Hvorda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Gjemme” alle difflikninger og numerikk inn i bokser (objekter) med definerte inn- og utgang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Lage disse boksene slik at de representerer fysiske komponenter i et kraftverk (et rør, en turbin osv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Bygge opp systemer med disse boksen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798720" y="3954600"/>
            <a:ext cx="519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3081240" y="4216320"/>
            <a:ext cx="603360" cy="177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533480" y="4087800"/>
            <a:ext cx="8467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Franci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3347640" y="4341960"/>
            <a:ext cx="1073160" cy="671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018760" y="5472000"/>
            <a:ext cx="1194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Rør/Tunn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4211640" y="5589720"/>
            <a:ext cx="79200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87600" y="5276880"/>
            <a:ext cx="529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Te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V="1">
            <a:off x="1243080" y="5084280"/>
            <a:ext cx="520560" cy="171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5C1-82B0-4B9C-9B72-C3DAB62FF2E8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Hvorda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rcRect l="89" t="0" r="0" b="0"/>
          <a:stretch/>
        </p:blipFill>
        <p:spPr>
          <a:xfrm>
            <a:off x="351000" y="2651040"/>
            <a:ext cx="5448240" cy="39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538200" y="1554120"/>
            <a:ext cx="36162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ypisk forside (Front Panel) og del av bakside (Block Diagra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738760" y="4189320"/>
            <a:ext cx="314172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n bruker trenger bare å forholde seg til forside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NB! Baksiden er også tilgjengelig slik at man kan endre og juste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44636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91A4-F3F8-4A2B-9571-F5A63ABB327F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Komponenter i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5435640" y="1739880"/>
            <a:ext cx="1822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Pipe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Rør og tunn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65"/>
          <p:cNvSpPr/>
          <p:nvPr/>
        </p:nvSpPr>
        <p:spPr>
          <a:xfrm>
            <a:off x="5364000" y="2637000"/>
            <a:ext cx="2706840" cy="106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AreaDiff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Kobler sammen to rør/tunnel av samme eller forskjellig diame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1905120" y="23320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f, L, D ..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1769760" y="342900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p, 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Text Box 73"/>
          <p:cNvSpPr/>
          <p:nvPr/>
        </p:nvSpPr>
        <p:spPr>
          <a:xfrm>
            <a:off x="5292720" y="4292640"/>
            <a:ext cx="28083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Bekkeinntak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Svingesjakt med innstrømn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Text Box 89"/>
          <p:cNvSpPr/>
          <p:nvPr/>
        </p:nvSpPr>
        <p:spPr>
          <a:xfrm>
            <a:off x="1622880" y="4724280"/>
            <a:ext cx="1267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p, 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m, D, 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5302080" y="5516640"/>
            <a:ext cx="28083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ConstH2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Konstant trykk, typisk magas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Text Box 111"/>
          <p:cNvSpPr/>
          <p:nvPr/>
        </p:nvSpPr>
        <p:spPr>
          <a:xfrm>
            <a:off x="2028240" y="6021360"/>
            <a:ext cx="4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" name="Picture 115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6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7" descr=""/>
          <p:cNvPicPr/>
          <p:nvPr/>
        </p:nvPicPr>
        <p:blipFill>
          <a:blip r:embed="rId3"/>
          <a:stretch/>
        </p:blipFill>
        <p:spPr>
          <a:xfrm>
            <a:off x="2050920" y="422100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8" descr=""/>
          <p:cNvPicPr/>
          <p:nvPr/>
        </p:nvPicPr>
        <p:blipFill>
          <a:blip r:embed="rId4"/>
          <a:stretch/>
        </p:blipFill>
        <p:spPr>
          <a:xfrm>
            <a:off x="2050920" y="5445000"/>
            <a:ext cx="4334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412-7A8D-45DF-AD13-3EF6C1339EF7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Komponenter i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64000" y="2919240"/>
            <a:ext cx="270684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Francis” og ”Pelton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1723680" y="34290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N0, D1, ..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75"/>
          <p:cNvSpPr/>
          <p:nvPr/>
        </p:nvSpPr>
        <p:spPr>
          <a:xfrm>
            <a:off x="1384200" y="4935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336600" y="4005360"/>
            <a:ext cx="8483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+ mange flere, T’er ventiler, svingesjakter, pumper, regulatorer osv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Alle kobles sammen likt med ”tråder”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Konstanter (L, D osv) må spesifiserer for hvert elem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ull ”copy and paste” funksjonalitet av elemen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Det er ingen begrensninger på hvor detaljert man vil gå tilverks. Man kan ha tusenvis av elementer om man vi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" name="Picture 79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0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4256-018D-49EB-8456-574409BFE1E5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varianter” av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Beregningsprogram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il beregninger og simuleringer, opplæring og k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Nye anlegg, gamle anlegg, verifisering 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Studier av mulige endringer (for eksempel større turbin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Se effekter av forskjellige reguleringsstrategier og regulator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Simulato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il opplæring, kurs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il bruk av driftsperson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Loggesystem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VTrans kobles opp til målinger og kjører parallel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Kan brukes som et ”vannvegsvern” og kjøres på P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CD74-392D-44D2-B7A0-0D45C66EC227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varianter” av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orskjellen for disse ”variantene e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eregningsprogram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Forutsetter så og si ingen forkunnskap i LabVIEW eller programmering eller hydraulisk numerik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Må kun ha kunnskap om vannkraftver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Simulato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Må ha grunnkurs i LabVIEW (må kunne lage grensesnitt og blokkdiagramm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oggesystem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Må ha erfaring i logging av da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Erfaring i LabVI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366"/>
                </a:solidFill>
                <a:latin typeface="Arial"/>
              </a:rPr>
              <a:t>NB! ”Simulator” og ”Loggesystem” kan kompileres til selvstendige eksekverbare program som kan selges/distribue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D4B2-ED5D-4DAC-8BC1-4B1F0308068A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varianter” av LVTrans fort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mbedded løsnin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LVTrans kjører i en PLS fra National Instruments, og brukes til å predikere hvordan kraftverket vil oppføre se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Dette er en egen versjon kalt ”RT” (Real-Time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Den er ”embedded” og har ikke visuelt grensesnitt, kun dataoverfør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E068-D9E4-4A04-8664-EDB2D722ADD2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Brukere i da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6600" y="1341360"/>
            <a:ext cx="8440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NTNU/SINTE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Institutt for Vann og miljøteknikk (Flere Dr.ing og Master oppgaver 2011 – 2014). Dr.ing student Kaspar Vereide har utviklet elementene for luftputekamre  som bruk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Institutt for energi og prosessteknikk (Master-oppgaver) og i undervisning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SINTEF Energi – Brukt i mange prosjekter tidligere i olje-industri og energ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Rainpow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rukt i over 50% av alle prosjekter. Transiente garantiberegninger og stabilitetsberegning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rukt i Tonstad-prosjektet (embedded løsning med RT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Statkraf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rukt for verifikasjonsberegninger av et vidt spekter av anlegg (Torbjørn Eriksen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FDB – brukt i enkelte prosjekter i olje-industri og energi (vannkraft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Sira-Kvina og Hydro – Rene simulatorer og andre prosjekter, blant annet embedded løsning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29:41Z</dcterms:created>
  <dc:creator>Bjørnar Svingen</dc:creator>
  <dc:description/>
  <dc:language>en-US</dc:language>
  <cp:lastModifiedBy>svingebj</cp:lastModifiedBy>
  <cp:lastPrinted>2001-12-20T10:37:21Z</cp:lastPrinted>
  <dcterms:modified xsi:type="dcterms:W3CDTF">2014-06-19T13:47:32Z</dcterms:modified>
  <cp:revision>35</cp:revision>
  <dc:subject/>
  <dc:title>LVTrans</dc:title>
</cp:coreProperties>
</file>