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9FA31-DB48-4973-87DC-23A514890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36600" y="417564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05BB-BFE9-4AAE-8AA0-F28FBDB58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164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36B3D-0825-48D8-A167-0358B77FA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068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44400" y="177480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3660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068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44400" y="4175640"/>
            <a:ext cx="271764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7BFE5-9CD0-4988-A82F-640B2E0356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80872-37D2-461D-B062-2CC133C784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74DE6-ECF7-4BE7-B12B-4D4EDCF0F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93F7D-EFF2-42C5-8AEB-CF2D14F7C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33F7-DB33-4968-B9B1-0DB7371DBA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36600" y="569880"/>
            <a:ext cx="84405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BC68-DE3A-4504-883F-58E8B7175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6F659-4A4B-4C4F-A472-160CF76A55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1640" y="417564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30AC1-141B-4A54-A4A6-D48BD0BF61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640" y="1774800"/>
            <a:ext cx="41187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36600" y="4175640"/>
            <a:ext cx="8440560" cy="219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17D7F-BFF0-46A6-BABD-CBD780368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881840" y="664344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BBEF-A29C-4105-A53A-64B2DBBBADC1}" type="slidenum">
              <a:rPr b="0" lang="en-US" sz="10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LabVIEW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abVIEW (LV) ble i sin tid laget som et grafisk grensesnitt som forenklet logging og analysering av da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V er i dag utviklet til å bli et fullt grafisk programmeringssprå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Programmeringen består i å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Lage en ”forside” med grafer, knapper osv (representerer for eksempel utsiden av en radio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1800" spc="-1" strike="noStrike">
                <a:solidFill>
                  <a:srgbClr val="003366"/>
                </a:solidFill>
                <a:latin typeface="Arial"/>
              </a:rPr>
              <a:t>Lage en ”bakside” med blokkdiagrammer (representerer innmaten i radioen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Kildekoden (blokkdiagrammet) er ”åpen” og blir kompilert ved lagr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Eksekverer meget raskt (tilnærmet optimalisert C kod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Ferdige programmer kan kompileres videre til helt vanlige program som kan installeres uten at man bruker LV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En tilnærmet uendelighet av hardware og software kan kobles sammen med LV (loggeutstyr, Internett, e-post osv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9C771-A9BB-4057-A12B-08CA646233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Eks: Addere to tal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5960" y="1787400"/>
            <a:ext cx="4686480" cy="214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11040" y="4438800"/>
            <a:ext cx="5315040" cy="2152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157000" y="2363760"/>
            <a:ext cx="31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Forside” eller Front Pan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188320" y="3976560"/>
            <a:ext cx="353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Bakside” eller Block Diagram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E0AB7-B5AA-4D43-B438-62A244A5F4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Eks: Temperaturmåling (simulert)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89080" y="1332000"/>
            <a:ext cx="4047840" cy="40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468600" y="3849840"/>
            <a:ext cx="5133960" cy="277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406280" y="3363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6680160" y="3700440"/>
            <a:ext cx="797040" cy="1162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315480" y="295416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003366"/>
                </a:solidFill>
                <a:latin typeface="Arial"/>
              </a:rPr>
              <a:t>Random tal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5776560" y="3495600"/>
            <a:ext cx="1042920" cy="20019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B6B9-6D0D-47B5-B3EA-F5988F3AE2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36600" y="569880"/>
            <a:ext cx="84405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3600" spc="-1" strike="noStrike">
                <a:solidFill>
                  <a:srgbClr val="003366"/>
                </a:solidFill>
                <a:latin typeface="Arial"/>
              </a:rPr>
              <a:t>LabVIEW Oppsummer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36600" y="1774800"/>
            <a:ext cx="844056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Grafisk programm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Kan kanskje best sammenlignes med å bygge en radio med knotter og display, mens innmaten er et blokkdiagram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National Instruments som lager LV holder jevnlige kurs i hele Norge, fra nybegynner til eksper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66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003366"/>
                </a:solidFill>
                <a:latin typeface="Arial"/>
              </a:rPr>
              <a:t>LV brukes på alle høyskoler og universitet i tillegg til i industrie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7DCA-0B4B-4186-9585-20EE30E1CB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5T09:29:41Z</dcterms:created>
  <dc:creator>Bjørnar Svingen</dc:creator>
  <dc:description/>
  <dc:language>en-US</dc:language>
  <cp:lastModifiedBy>Pappa</cp:lastModifiedBy>
  <cp:lastPrinted>2001-12-20T10:37:21Z</cp:lastPrinted>
  <dcterms:modified xsi:type="dcterms:W3CDTF">2006-01-10T22:49:51Z</dcterms:modified>
  <cp:revision>21</cp:revision>
  <dc:subject/>
  <dc:title>LVTrans</dc:title>
</cp:coreProperties>
</file>