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6B57-0F51-4B8E-8626-4105BA0C5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6600" y="417564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9D14C-6DC7-4B93-8EE0-8173C5D64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64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5C9F-70EF-439F-875C-93B9F2D0B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068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440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3660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068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440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01C9-1362-4F63-A285-3CCB056E863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57B22-BBBF-4858-BAFD-7BE04970B2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5FCE-DD36-4C3A-90F9-488669B951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07E1-7A09-4CAE-AE5C-E3FDE5592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6FA3-D7CB-4B46-99E1-CF9523C58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36600" y="569880"/>
            <a:ext cx="8440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59971-A836-4952-8657-6FFAC62A77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C92B-4353-47B8-B099-485EB976C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64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44D1-212F-4686-8B14-9364C3813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2C985-6E79-42B6-906E-03715663C5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6" descr="Background for projector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881840" y="66434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F99D-F8AC-4603-A938-3298ABDCC0B4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A85E-0495-4549-B697-DE9E382A5922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1"/>
          <a:srcRect l="0" t="19488" r="3127" b="6652"/>
          <a:stretch/>
        </p:blipFill>
        <p:spPr>
          <a:xfrm>
            <a:off x="601560" y="1217520"/>
            <a:ext cx="8266320" cy="5042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LVTr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Generelt beregningsprogram for strømning i rørsystem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Tunet” inn mot vannkraftver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Bruker LabVIEW som grafisk grensesnitt både til bygging av systemer og til interaktiv visn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Brukeren setter sammen ferdiglagede komponenter, og trenger ikke å tenke på hva som er inni komponentene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Brukes til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Dimensjonering, ved nybygg eller endring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Studier av mulige endringer/forbedring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Verifisering/QA av eksterne beregning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Simulator som verktøy for driftspersonel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Til opplæring, kursing etc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Kan kobles opp mot eksisterende måleutstyr og blir da foreksempel et slags ”vannvegs-overvåkingssystem”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14B5-EA1A-41D6-9A4C-673BCA81EF6E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Lise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36600" y="1341360"/>
            <a:ext cx="844056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LVTrans er utviklet av Bjørnar Svingen. Lisens har lenge tilhørt Sintef Energi og Bjørnar Svingen i felleskap. I dag er hele programpakken ”Open Source”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Lisensen er i dag BSD-lisens med Sintef Energi og Bjørnar Svingen som Copyright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BSD-lisens er valgt av følgende grunner: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3366"/>
                </a:solidFill>
                <a:latin typeface="Arial"/>
              </a:rPr>
              <a:t>Kan fritt distribueres og modifiseres kommersielt eller gratis (viktig for universiteter)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3366"/>
                </a:solidFill>
                <a:latin typeface="Arial"/>
              </a:rPr>
              <a:t>Ingen krav til videre åpen/”fri” distribusjon (viktig for kommersielle løsninger og modifikasjoner, spesielt embedded løsninger)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000" spc="-1" strike="noStrike">
                <a:solidFill>
                  <a:srgbClr val="003366"/>
                </a:solidFill>
                <a:latin typeface="Arial"/>
              </a:rPr>
              <a:t>Copyright-innehaverne kan velge å distribuere kun deler av programpakken.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878544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6" descr=""/>
          <p:cNvPicPr/>
          <p:nvPr/>
        </p:nvPicPr>
        <p:blipFill>
          <a:blip r:embed="rId1"/>
          <a:srcRect l="36912" t="16980" r="32970" b="50006"/>
          <a:stretch/>
        </p:blipFill>
        <p:spPr>
          <a:xfrm>
            <a:off x="1547640" y="4076640"/>
            <a:ext cx="3672000" cy="2089080"/>
          </a:xfrm>
          <a:prstGeom prst="rect">
            <a:avLst/>
          </a:prstGeom>
          <a:ln w="0">
            <a:noFill/>
          </a:ln>
        </p:spPr>
      </p:pic>
      <p:sp>
        <p:nvSpPr>
          <p:cNvPr id="45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F552-9ADB-4A08-B51A-5573F78F467D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Hvorda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Gjemme” alle difflikninger og numerikk inn i bokser (objekter) med definerte inn- og utgange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Lage disse boksene slik at de representerer fysiske komponenter i et kraftverk (et rør, en turbin osv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Bygge opp systemer med disse boksen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798720" y="3954600"/>
            <a:ext cx="519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PI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H="1">
            <a:off x="3081240" y="4216320"/>
            <a:ext cx="603360" cy="1778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4533480" y="4087800"/>
            <a:ext cx="8467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Franci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Line 11"/>
          <p:cNvSpPr/>
          <p:nvPr/>
        </p:nvSpPr>
        <p:spPr>
          <a:xfrm flipH="1">
            <a:off x="3347640" y="4341960"/>
            <a:ext cx="1073160" cy="6714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Text Box 12"/>
          <p:cNvSpPr/>
          <p:nvPr/>
        </p:nvSpPr>
        <p:spPr>
          <a:xfrm>
            <a:off x="5018760" y="5472000"/>
            <a:ext cx="119412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Rør/Tunn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 flipH="1">
            <a:off x="4211640" y="5589720"/>
            <a:ext cx="792000" cy="287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687600" y="5276880"/>
            <a:ext cx="52956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Tee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Line 15"/>
          <p:cNvSpPr/>
          <p:nvPr/>
        </p:nvSpPr>
        <p:spPr>
          <a:xfrm flipV="1">
            <a:off x="1243080" y="5084280"/>
            <a:ext cx="520560" cy="171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FCA6-CCC8-4B40-B01B-AEB2691C7A21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Hvordan?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rcRect l="89" t="0" r="0" b="0"/>
          <a:stretch/>
        </p:blipFill>
        <p:spPr>
          <a:xfrm>
            <a:off x="351000" y="2651040"/>
            <a:ext cx="5448240" cy="39877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538200" y="1554120"/>
            <a:ext cx="3616200" cy="100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Typisk forside (Front Panel) og del av bakside (Block Diagram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738760" y="4189320"/>
            <a:ext cx="314172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En bruker trenger bare å forholde seg til forsiden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NB! Baksiden er også tilgjengelig slik at man kan endre og justere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2"/>
          <a:stretch/>
        </p:blipFill>
        <p:spPr>
          <a:xfrm>
            <a:off x="4500720" y="549360"/>
            <a:ext cx="444636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4F8F-A5F5-4519-98CD-E459EA84AC59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Komponenter i LVTr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Text Box 46"/>
          <p:cNvSpPr/>
          <p:nvPr/>
        </p:nvSpPr>
        <p:spPr>
          <a:xfrm>
            <a:off x="5435640" y="1739880"/>
            <a:ext cx="18223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Pipe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Rør og tunn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Text Box 65"/>
          <p:cNvSpPr/>
          <p:nvPr/>
        </p:nvSpPr>
        <p:spPr>
          <a:xfrm>
            <a:off x="5364000" y="2637000"/>
            <a:ext cx="2706840" cy="1067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AreaDiff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Kobler sammen to rør/tunnel av samme eller forskjellig diamete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Text Box 68"/>
          <p:cNvSpPr/>
          <p:nvPr/>
        </p:nvSpPr>
        <p:spPr>
          <a:xfrm>
            <a:off x="1905120" y="2332080"/>
            <a:ext cx="86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f, L, D ..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Text Box 69"/>
          <p:cNvSpPr/>
          <p:nvPr/>
        </p:nvSpPr>
        <p:spPr>
          <a:xfrm>
            <a:off x="1769760" y="3429000"/>
            <a:ext cx="8881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nb-NO" sz="14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p, C</a:t>
            </a:r>
            <a:r>
              <a:rPr b="0" lang="nb-NO" sz="14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Text Box 73"/>
          <p:cNvSpPr/>
          <p:nvPr/>
        </p:nvSpPr>
        <p:spPr>
          <a:xfrm>
            <a:off x="5292720" y="4292640"/>
            <a:ext cx="280836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Bekkeinntak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Svingesjakt med innstrømning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Text Box 89"/>
          <p:cNvSpPr/>
          <p:nvPr/>
        </p:nvSpPr>
        <p:spPr>
          <a:xfrm>
            <a:off x="1622880" y="4724280"/>
            <a:ext cx="12675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nb-NO" sz="14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p, C</a:t>
            </a:r>
            <a:r>
              <a:rPr b="0" lang="nb-NO" sz="14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m, D, 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Text Box 97"/>
          <p:cNvSpPr/>
          <p:nvPr/>
        </p:nvSpPr>
        <p:spPr>
          <a:xfrm>
            <a:off x="5302080" y="5516640"/>
            <a:ext cx="2808360" cy="8240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ConstH2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Konstant trykk, typisk magasin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Text Box 111"/>
          <p:cNvSpPr/>
          <p:nvPr/>
        </p:nvSpPr>
        <p:spPr>
          <a:xfrm>
            <a:off x="2028240" y="6021360"/>
            <a:ext cx="4597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nb-NO" sz="1400" spc="-1" strike="noStrike" baseline="-25000">
                <a:solidFill>
                  <a:srgbClr val="003366"/>
                </a:solidFill>
                <a:latin typeface="Arial"/>
              </a:rPr>
              <a:t>v</a:t>
            </a: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p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72" name="Picture 115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33440" cy="432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6" descr=""/>
          <p:cNvPicPr/>
          <p:nvPr/>
        </p:nvPicPr>
        <p:blipFill>
          <a:blip r:embed="rId2"/>
          <a:stretch/>
        </p:blipFill>
        <p:spPr>
          <a:xfrm>
            <a:off x="2050920" y="2997360"/>
            <a:ext cx="433440" cy="431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7" descr=""/>
          <p:cNvPicPr/>
          <p:nvPr/>
        </p:nvPicPr>
        <p:blipFill>
          <a:blip r:embed="rId3"/>
          <a:stretch/>
        </p:blipFill>
        <p:spPr>
          <a:xfrm>
            <a:off x="2050920" y="4221000"/>
            <a:ext cx="433440" cy="432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8" descr=""/>
          <p:cNvPicPr/>
          <p:nvPr/>
        </p:nvPicPr>
        <p:blipFill>
          <a:blip r:embed="rId4"/>
          <a:stretch/>
        </p:blipFill>
        <p:spPr>
          <a:xfrm>
            <a:off x="2050920" y="5445000"/>
            <a:ext cx="4334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21B5E-1EAB-4ACE-96FF-9E4E5FBDA907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Komponenter i LVTr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5364000" y="2919240"/>
            <a:ext cx="270684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1600" spc="-1" strike="noStrike">
                <a:solidFill>
                  <a:srgbClr val="003366"/>
                </a:solidFill>
                <a:latin typeface="Arial"/>
              </a:rPr>
              <a:t>Francis” og ”Pelton”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Text Box 32"/>
          <p:cNvSpPr/>
          <p:nvPr/>
        </p:nvSpPr>
        <p:spPr>
          <a:xfrm>
            <a:off x="1723680" y="34290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N0, D1, ..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Text Box 75"/>
          <p:cNvSpPr/>
          <p:nvPr/>
        </p:nvSpPr>
        <p:spPr>
          <a:xfrm>
            <a:off x="1384200" y="4935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Rectangle 76"/>
          <p:cNvSpPr/>
          <p:nvPr/>
        </p:nvSpPr>
        <p:spPr>
          <a:xfrm>
            <a:off x="336600" y="4005360"/>
            <a:ext cx="84834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+ mange flere, T’er ventiler, svingesjakter, pumper, regulatorer osv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Alle kobles sammen likt med ”tråder”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Konstanter (L, D osv) må spesifiserer for hvert elemen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Full ”copy and paste” funksjonalitet av element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Det er ingen begrensninger på hvor detaljert man vil gå tilverks. Man kan ha tusenvis av elementer om man vi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82" name="Picture 79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0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195D-1223-469E-A712-832B085CF02C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varianter” av LVTr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Beregningsprogram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Til beregninger og simuleringer, opplæring og ku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Nye anlegg, gamle anlegg, verifisering ..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Studier av mulige endringer (for eksempel større turbiner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Se effekter av forskjellige reguleringsstrategier og regulatorer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Simulator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Til opplæring, kurs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Til bruk av driftspersonel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Loggesystem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LVTrans kobles opp til målinger og kjører parallel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Kan brukes som et ”vannvegsvern” og kjøres på PL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CD8B-9956-4D37-966B-C19C4D73DB02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varianter” av LVTran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Forskjellen for disse ”variantene er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Beregningsprogram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Forutsetter så og si ingen forkunnskap i LabVIEW eller programmering eller hydraulisk numerikk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Må kun ha kunnskap om vannkraftverk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Simulator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Må ha grunnkurs i LabVIEW (må kunne lage grensesnitt og blokkdiagrammer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Loggesystem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Må ha erfaring i logging av data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Erfaring i LabVIEW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003366"/>
                </a:solidFill>
                <a:latin typeface="Arial"/>
              </a:rPr>
              <a:t>NB! ”Simulator” og ”Loggesystem” kan kompileres til selvstendige eksekverbare program som kan selges/distribuer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E647-553C-40DF-A24A-703C39BBB0CA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varianter” av LVTrans forts.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Embedded løsning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LVTrans kjører i en PLS fra National Instruments, og brukes til å predikere hvordan kraftverket vil oppføre se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Dette er en egen versjon kalt ”RT” (Real-Time)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Den er ”embedded” og har ikke visuelt grensesnitt, kun dataoverføring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lide Number Placeholder 3"/>
          <p:cNvSpPr/>
          <p:nvPr/>
        </p:nvSpPr>
        <p:spPr>
          <a:xfrm>
            <a:off x="7881840" y="6643800"/>
            <a:ext cx="990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2A63-846A-49B4-A98D-2701AFAE16A3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Brukere i da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36600" y="1341360"/>
            <a:ext cx="84405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NTNU/SINTEF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Institutt for Vann og miljøteknikk (Flere Dr.ing og Master oppgaver 2011 – 2014). Dr.ing student Kaspar Vereide har utviklet elementene for luftputekamre  som brukes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Institutt for energi og prosessteknikk (Master-oppgaver) og i undervisning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SINTEF Energi – Brukt i mange prosjekter tidligere i olje-industri og energi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Rainpow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Brukt i over 50% av alle prosjekter. Transiente garantiberegninger og stabilitetsberegninger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Brukt i Tonstad-prosjektet (embedded løsning med RT)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Statkraf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Brukt for verifikasjonsberegninger av et vidt spekter av anlegg (Torbjørn Eriksen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FDB – brukt i enkelte prosjekter i olje-industri og energi (vannkraft)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400" spc="-1" strike="noStrike">
                <a:solidFill>
                  <a:srgbClr val="003366"/>
                </a:solidFill>
                <a:latin typeface="Arial"/>
              </a:rPr>
              <a:t>Sira-Kvina og Hydro – Rene simulatorer og andre prosjekter, blant annet embedded løsninger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9:29:41Z</dcterms:created>
  <dc:creator>Bjørnar Svingen</dc:creator>
  <dc:description/>
  <dc:language>en-US</dc:language>
  <cp:lastModifiedBy>svingebj</cp:lastModifiedBy>
  <cp:lastPrinted>2001-12-20T10:37:21Z</cp:lastPrinted>
  <dcterms:modified xsi:type="dcterms:W3CDTF">2014-06-19T13:47:32Z</dcterms:modified>
  <cp:revision>35</cp:revision>
  <dc:subject/>
  <dc:title>LVTrans</dc:title>
</cp:coreProperties>
</file>